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C09-0A8C-480F-96A3-C81CDC34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4EE-DE47-41A9-B0B8-96E9ACF1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8B6B-9D7F-4409-A7FC-DA56A6D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6BC4-83AD-47E0-930F-D032A31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1F307-9920-4CEE-95AC-8F073ED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40CB-BAE2-4D32-9FDC-8EBE638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8B0D-F29C-4837-878F-6DB7C46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51CD6-DC1E-422C-B3FE-B474231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8D524-F693-4033-9826-7AAA4D3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4682A-D298-4B4A-8FA9-AAE2EE8E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6BFB6-B9A6-42E1-8F27-9F8C3C85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C153-C8CD-4D3E-ABEB-039A2184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03B-5270-49F9-984F-DE27BC90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25A45-9986-4FCD-8FD9-F7A3AFC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B7DDF-81C7-4A25-8677-B5F4FD2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822CA-4E35-498E-878C-B8FE6776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A52E3-25A9-4E5E-833A-C9901FB9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CDC1-1CC2-4C7C-A0CA-1DACAEB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68C84-4ED4-47B0-9534-27442A5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7AB67-83B5-4134-B67F-03414BA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51191-92AF-4E19-B9E3-3D36E72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EC1D1-B901-4EFC-94FA-57A4F13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8FCE3-4B58-4FD6-9326-F9E4492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52A-7636-4F47-99C5-7B187CAD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3679-C562-48ED-9755-A41D94BD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919D3-1E05-44D8-8C43-09CA2C63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B2359-165C-48B4-AD43-34F9201C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5025C-E55D-443E-A25C-BAFD3EE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C4F37-0095-4737-B25A-49943F7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36B54-C89A-48B5-8206-67CC7D79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6816-320A-4236-B4D1-ADC04A85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6486-3B77-40A8-8A96-188342E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6ADC-928F-491E-B674-8B5CBF0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184E-17BB-4794-B018-EABA1EE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1407-4815-439C-954F-83F1EDE3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52E9B-378A-4EE2-8D04-4F9F23DA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12468-9644-4F39-8FF5-5AA9A793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A993C-35A6-41EC-85AC-F00B4269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0387-CF54-4A2B-B7DE-3C166EF3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49E4-B75A-4D3D-B207-03D8EC3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B8F1-3C2C-4644-891D-313FD82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52826-F64C-4CAC-8A9B-51F5923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87E87-7155-4CBE-9356-F86314E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2E82A-1B7C-4C4F-9869-22CBF2A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1B8F2-4332-4C63-9FA2-69F597F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F5C7-E91E-4DFB-9745-32783474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CFB01-38BC-43B1-81A8-047D47D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721BA-4F85-414F-B086-32969C8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7D137-1256-401F-84E5-B18DEA4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D7081-C707-452A-AF39-002A09F3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DC70C-79E7-4C81-ABFC-2B070619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4DB26-4855-43BC-8879-256C9383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62566-E716-4EE6-B857-9E439876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97451-309D-4472-A32F-7C19CC28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E4217-19E6-4A27-844B-E6F402D8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3E650-4C27-4E21-AEBF-BB3097A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583-693F-4835-BF17-39AA6FF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DD8F1-94DB-4BAB-BEFA-73ACB50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7D3EC-5D2B-41E5-B05A-FF389B6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97914-9744-4AB8-880C-A47608A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00ACC-75FE-4412-9A54-3A0328C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5A86A-7A0E-46CF-9711-7259B3D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7DBAF-0150-45D5-B438-D0DCD9FC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1D8C1-4188-4E67-9C55-6FD54B6D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FB38E-4A17-4170-BE10-4AB0E2C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83CEB-8F17-408A-8728-49FE18D2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173A9-F064-43ED-B618-BAE387E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48E-B91E-4D1B-94CA-351242E4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AEC62-E7C0-4B56-889B-91A43BC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75503-03F6-438D-A9DD-39251F63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5AD80-52EB-44F6-A09E-ACB3775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D58FD-486C-424A-A2A6-AF2C709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FFE08-FFDC-43E7-8AE7-280CD80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F4772-03F8-42FB-B6E2-7362DD3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35E5E-116E-431A-8F41-46F15FBF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D2C7B-0034-4D43-8D55-4285D4A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568F8-A49B-4877-AB34-8F77E5D1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A84FC-D1E5-45F5-A27B-B9AE0037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C32-7E1F-4C55-80C4-19EF8B3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5B9D7-A864-41F8-8806-A64142AD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636F3-A8A9-4134-898E-B453BD41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4DAE8-BA1C-445D-B1EC-5FD6F18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3D00D-F817-42F6-AA6C-B6530ED4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8781A-FFC3-48A0-8B59-BF5726F3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A4873-487D-4B97-9B89-AA153A1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95E28-5DCE-4EB0-BD0B-28C0841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B0072-573D-4DCB-8FB4-05B92D9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619C5-DB79-4C65-AAB9-94E79CC0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95CAA-2F84-4C46-9C18-BEC1FE3B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5A01-FC8D-4C93-BC26-22CD3D5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795A8-4B94-4C0E-A78D-166C6DB4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95E01-F85B-4C8C-AD6D-1090E23F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8582A-F15C-4546-9319-6D4C7699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39AFD-739C-43A7-8E5A-E7FD70BC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E8EFB-2F70-452F-B577-6E652B6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F486D-D708-400A-B465-75DF8AA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0FC7B-7A61-4366-BDEA-38F1C4E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8939C-FD8E-47F5-887E-1C47A68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1BCC3-3C27-4937-B007-CDF76BB6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A1657-DBEC-4944-AC8B-22F5F85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9E46-7451-44FC-B07E-B6F82D5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81FF4-0765-4D8D-A104-201D7E2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BA70A-24C4-42A7-A898-E3878D13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82F29-8364-434B-B7A1-2BF2C277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28051-F322-4BCF-B99F-B6E07978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4E9A8-F04A-4657-B189-4C65621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A95DC-FA48-4609-AA5C-A1CE637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DEC2A-E397-4654-8D2B-05BD2BE8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828B0-DED7-4AF0-B61F-7CB332E7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DC0A7-F581-4EC0-B882-633A8ECE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36490-8AD8-40F9-83AA-DF16E93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80D-FEFD-4D0F-86BA-B616B9AD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FCC-A3BD-4AA1-A89F-C959AF3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AD652-F57C-49E1-8538-162A64A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046A3-31C7-4BFC-AB90-B9AF6E4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3E543-DE6C-4EB1-A753-C4941A9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0F00C-6AD1-4BE8-862D-F996C65D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831C2-E1DC-40AE-A325-465E5CF6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745C9-604C-49C1-B181-A061C40A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67D89-4D8F-4DFF-AC38-4593BBC8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5B5FB-4F3A-4786-A484-727790A0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926B6-B3A6-4802-BFCE-6856FEA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C31E8-E33C-41D0-A3BC-F1FE4B5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B7D0-EBBF-4BAA-BC81-B2D81EF3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B49CB-59DA-458A-9DB9-87CE6540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82CDE-0609-4E7B-A0CE-A646D54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C76AB-8885-47C7-8EB5-B8A05A8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1BE97-3A28-4352-99A5-68E31B9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18F58-B66A-45C6-AD01-6EB3CDB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70453-446E-41B0-9286-66FFC783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B8633-9053-411D-BD33-A39FD936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43738-9283-45AE-8023-557FEBF8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9F7EE-6220-4E64-BC59-D3C42A4C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F1D74-F287-4E99-BCE2-90065D2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00D-4FAA-42DA-98DB-EEF21E11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57ECD-62ED-4C15-9D4A-3EA712F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A0290-C5A0-4A86-B369-1849042B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EC738-AFF6-4F93-949C-624FEFF3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BFFF4-F528-4E15-91C9-55F2982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F2EF9-2C55-4DD9-8FFA-3BB163C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8DF7C-405E-46EA-85D9-4DD307E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6B36B-E260-46C8-99CE-5BF3829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28F85-D857-4448-A9E4-97C34B8E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66ED9-20E0-4C30-8FF8-BCBE527B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014DC-42EB-43E7-A2DC-11153B5F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425-477A-4C36-8D22-05FA43EB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A3107-C5B5-462B-BE67-96A949C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B8BFE-836A-4390-B424-10DFF69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CB392-4D63-40C7-847E-4450FA2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95533-4C24-4504-AA61-4FC7CE87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DE7A0-0687-4DC1-9ABC-8B58073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A2352-716A-48BB-AF7C-099DFFD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C2C34-1F22-4857-B482-CB30E14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16EC0-E9C3-4E78-BCF2-FEAC05E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9C217-52AE-44F5-A7CB-7506B68C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E0195-702D-4F29-A61B-B99670FE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B0CA-3EEE-462E-96A2-C5FA7F39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F6A39-FED9-4D78-8454-A6ADAE7C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724B2-1EE3-4EE3-A5EC-7F33635D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7E420-B2D3-4C9F-8B0A-93D09FE2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FB6E0-7E7F-4CFD-9396-8A452DC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586B3-9C13-4113-ABA7-8BFF3ABB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505F05-ECFF-4B78-AFBC-9B6F2316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BD864-DFDA-4260-87FF-AD646C76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EFCEE-C849-4EFF-89B5-36EC872C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3A8FC-481C-4826-BEF4-85034F8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07A6E-62F4-4D8F-A564-CB0D98C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7A00-D6B9-4C12-AB7A-3FB4F373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E4111-BB86-4237-A990-423CA715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1B5B4-41D4-407F-99E8-0FB20FA2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F423E-EDC2-4590-BE6B-BA94212A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E9FFC7-586F-45E2-A476-D89C468D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D8A884-83B3-4BC1-9394-7B2EABC4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B87171-2D7A-4EF0-BEF8-24C1E865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FABF7-2EAD-4573-A26B-A3330D2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F628C-40FF-40F9-B1D1-D570E99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340B4-DEA4-4D1F-93DC-818868B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CAB02-CFD6-450D-9A84-671BB05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DB4F-2786-4AF9-9B5B-0E24F33D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C2DD77-9672-4880-A7E7-6535170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E3368-9BA4-448A-AC4E-A8735F1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8B9C4-9059-4480-91E4-68C371F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F8C178-11D4-4876-B397-88C33EAF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D1B998-BB69-4101-AF2E-3571B3E2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E5745-1CF4-4EA7-96AE-612E7BB3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77865-E0A3-4920-ACBC-65427063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7AE59-E580-4302-A2B3-2A56E2A4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CFEE7-5CBD-4A93-96C2-697893B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6D8FEF-601C-4FE0-AB83-21529A69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B188-969A-4405-84AD-2FA5C91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228EC4-D516-4157-9CB7-730010F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7058B-8818-4E84-AA87-AADE23F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ED03D-1522-4161-917B-1D93171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E06069-8E03-45DF-B776-582299A6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3DA9D-34F3-4E78-B2A3-35F36D1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D1EB67-B7BB-4E53-A9ED-51BE2DDD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02C3A-838C-4F96-9F15-BF44176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8C17-F1D0-49D2-BFDB-6AE5618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1E0B-4748-44A1-B32B-45EA04C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A77-46D1-49C6-A54A-ED35D9A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901D-91AC-48ED-9719-887179C8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9E1A-94A7-46D8-AF44-D598D233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E13A-7BCB-44AC-9468-171A29B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8BB6-49FB-4ECD-9968-878F41E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1FAB-1611-44DC-A425-2B9E0D2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687F-2E22-4485-B18A-C3507435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2F23-9EE6-48A2-8AD2-50EAF28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46FC-9272-401C-822A-8B897771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6969-79E1-40E6-B628-919232C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4367-619B-410A-9123-2DF62B27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9BD-5AA5-4986-AA24-448B4C9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5332-2D2A-4D66-82B7-BFE86282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96D0-9AB0-4614-A175-76618A1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25B2-BEB8-4BB3-B444-E104E7A6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45F6-259F-4F86-8FC3-DCA269D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7E1E-581A-4CF1-83FD-5C6016D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2E73-65CB-44E9-A825-C4C8D96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35D9-BB61-462F-A25A-7327B5D3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ED7F-321E-4710-9B0E-22CAF8F4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0A2F-4769-472B-AD9C-EFA17A9C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6ED4-C412-4F4B-945D-6D3556A5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5D6-BE6F-47FE-89B2-90DEED6B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49E0-F9EC-4F0C-BC11-44686A0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1019-13BD-4462-97E0-B9BC030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9C9A-3336-444E-BF02-80E6FD4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0E5A-2D07-47BF-B160-5F2C6F2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9E21-CE94-40F5-B9F9-59090EE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C157-5204-420D-BF13-1188294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F657-F749-41EF-B22E-2DF53BC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C5A5-6C8E-4637-BD72-DC1A8BD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1EA4-0759-46EE-86E3-B8FB0706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F343-9490-434C-B130-B9ABF5CE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F14-872C-4C51-B21E-FA51A647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CBCD-46F0-46AA-9619-EE6D289E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159AD-FF01-4D51-A0AF-D23C3B4F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9F73-6B25-4402-9A66-8E38E99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D7E6-C53B-4083-A356-AE33C60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A3D1-5EA7-416C-9A33-C9FD4CA3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21F9-BC26-4A08-8630-94E3E0A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343F-57AB-4DD8-83DB-410AD56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2AC4-32D0-4AE1-B52C-986C67D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8173-131A-4077-B03F-0A5C747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667B-1CA4-4D77-8D59-AD8467A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076-C42D-4D00-852B-C875082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0CA7-C7A5-4907-B644-34B3A40A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47DC-569A-4CB4-8E58-DBA8634C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6BDEC-AEE6-46E0-BEA3-557BE37E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7ACA-8964-493D-9FB1-B23B7EBB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6717-C94F-42E0-B4CB-9D92BB53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931C-A456-4247-B940-CA590AC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88555-1614-413F-8CD9-6981C6E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2C1B-8E50-48A8-9934-FA7CD762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EF3CC-ADFA-43BE-8603-B4900178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80B0-5144-4323-9141-8EFCF86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0EF-596B-4547-9A74-D0BEB38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72E0-6A0B-41F8-A781-41EBF7D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B9D73-B738-4CEA-B99D-2967B1C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1B97F-8E74-4451-8A07-92DFB0E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C51C-F1EC-4216-8657-6D2E57CD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9D1B-9790-43B8-B2FD-FBBA4784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33432-A055-48B1-A24B-4224BC5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7577-E6B3-458D-84D9-C614A21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A74D-441A-4863-98C7-43CFE8E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0BBDD-F257-4DE1-9CC8-D0753F0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1B39-8208-40EA-9007-6B31FEF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D31-4AAB-4E23-B79E-06D9D44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3A12-8EA2-4C88-98DF-B45A468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8A07-77A7-4A25-AA67-A4258B5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453C-13A9-4E9E-A448-5A59F01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4EAD-D85C-4E3A-A237-B68A665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0820-E68A-4A9F-8BC8-71F44BF0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08CB-CE14-4F9C-9175-6948E9A9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3064-ED12-4262-AF48-230B5CB8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8F20E-87DC-4DED-A016-875F9E28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6F067-9225-4012-83DF-AFC4563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EE829-ECBB-48DC-80CF-B74A6871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8E6-B28C-42B6-8595-21A2573C6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B716-3049-4903-AEA3-17A7DFB1BF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7DD-9C3E-4983-976F-2FC79747E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3377-0E3A-4D1A-AB76-1B843F51D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B0B5-64A5-4DF9-9F30-55E6F7DFA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395A-8FF6-4604-8CB6-5BE40027E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458-06EC-43A0-A15F-D8D256B20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8A3-6B5F-4C66-B015-1B8BD4EF35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618-222E-4C17-8AD2-A3F73EA91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1F6-ADC2-48FA-A0EC-2310E278C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EB7-F1A3-438E-95BB-1A963061C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5A7-7049-4E77-ADF1-31923DD92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43D-251F-435F-81F9-CC775156C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17A0-F169-49C3-AD10-F5541D3D1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E72-521D-4D04-A9E6-11413637B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021-8258-4E6B-8FE0-6C9B28C21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13A-A5F1-4E27-A200-B0FBA07CC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AF7-71A1-4D29-B20B-E22FA1CD2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001-9F8E-48AF-807D-7AD349C0F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BA5-17A1-4F95-B627-AEF810F3F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FDD-528F-499B-8158-DC2D411DD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CF9-7B47-43E6-96D7-EDD3C00E3F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2B0-26E7-4AA5-825B-2B61FEF8D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23B-B9F7-47AD-B742-E7C48A7EC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C41-7AD2-4F54-B703-7E2B4E82F0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E954-BCBB-4B9C-B9A6-CAA6F926B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281A-C6E1-47C2-88CC-6A0DECD5D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C60-1254-4E44-A143-EE7128AD2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6F8F-386D-43BB-9A52-396C63644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23F-ADA5-479D-BC96-EFAEBFBB3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0AB6-13FD-45E0-91F7-BC19BFE73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B1B-A0AB-4A76-93DA-D028A8AA3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F1F8-B5C1-4412-AEBF-F3A69BCE8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040-CACD-4CB1-8CB2-22A165C70C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DF5-16C9-4D33-A75D-D1A48C0CD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AE0-A8A5-4D73-BF6F-4BD25EE1D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A4B-88D1-41B2-B8BF-AFB84D4C3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78BA-4DEB-41F1-88C2-CFA8DE2D5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59B-6A4F-42DD-A7C5-5108021CF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3D8-3984-4640-8867-D0F90EF7A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2F0-43AF-4726-ADBA-27A9F947C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90C-01F2-4658-BA74-A79028283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585720" y="1555920"/>
            <a:ext cx="7970760" cy="95220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2" descr=""/>
          <p:cNvPicPr/>
          <p:nvPr/>
        </p:nvPicPr>
        <p:blipFill>
          <a:blip r:embed="rId2"/>
          <a:stretch/>
        </p:blipFill>
        <p:spPr>
          <a:xfrm>
            <a:off x="2023920" y="3197160"/>
            <a:ext cx="53150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343080" y="938160"/>
            <a:ext cx="1723680" cy="3524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42920" y="1625760"/>
            <a:ext cx="8858160" cy="46098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395280" y="414972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395280" y="522936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95120" y="2490840"/>
            <a:ext cx="4608720" cy="143820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2" descr=""/>
          <p:cNvPicPr/>
          <p:nvPr/>
        </p:nvPicPr>
        <p:blipFill>
          <a:blip r:embed="rId2"/>
          <a:stretch/>
        </p:blipFill>
        <p:spPr>
          <a:xfrm>
            <a:off x="123840" y="3929040"/>
            <a:ext cx="8896320" cy="10382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1692360" y="359244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2771640" y="392436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500720" y="4278240"/>
            <a:ext cx="143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2556000" y="4629240"/>
            <a:ext cx="93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880920" y="2000160"/>
            <a:ext cx="7382160" cy="2857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1908000" y="269892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2843280" y="304488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1763640" y="341964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4284720" y="34164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2843280" y="378000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7"/>
          <a:stretch/>
        </p:blipFill>
        <p:spPr>
          <a:xfrm>
            <a:off x="2124000" y="414972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8"/>
          <a:stretch/>
        </p:blipFill>
        <p:spPr>
          <a:xfrm>
            <a:off x="3780000" y="4489560"/>
            <a:ext cx="1512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54000" y="747720"/>
            <a:ext cx="9037440" cy="53625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755640" y="146196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2916360" y="146196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1403280" y="2182680"/>
            <a:ext cx="32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1116000" y="2881440"/>
            <a:ext cx="367200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1763640" y="3621240"/>
            <a:ext cx="230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1258920" y="4330800"/>
            <a:ext cx="338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2843280" y="5051520"/>
            <a:ext cx="360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2195640" y="5762520"/>
            <a:ext cx="2520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2:4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